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D0B-1EAF-40DC-BAF8-B8821E99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D96-12A9-41D1-9DBE-34D5E5DD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24C-2814-4C1C-88F2-7E0E5691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FC2-8F6A-489C-8CE0-8869E04A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D2F-0205-4BFF-9A89-DDF1203E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989-DF6D-4C33-983B-EEBED28D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C5B-1549-4C0A-A213-8133063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D8D-841A-4FEB-A581-0E3B5DC1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002-54B0-401B-8B4B-686412E9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995-1302-4B9F-882B-0011C8CE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D6A-FE00-4E46-8A31-02509CC6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369-095F-4EE4-9BEB-168B5DB4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CFA1-1685-4E0F-9860-76C824E46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Wisdom of God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isdom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ord made fles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iberator of cre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4:49Z</dcterms:created>
  <dc:creator>Anon Anon</dc:creator>
  <dc:description/>
  <dc:language>en-US</dc:language>
  <cp:lastModifiedBy>Anon Anon</cp:lastModifiedBy>
  <dcterms:modified xsi:type="dcterms:W3CDTF">2005-08-09T05:00:58Z</dcterms:modified>
  <cp:revision>8</cp:revision>
  <dc:subject/>
  <dc:title>Wisdom of God (SLD-2)</dc:title>
</cp:coreProperties>
</file>